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5E4-A9B7-482B-B9D7-E9B944AA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C8C-3DDA-4106-903B-050B2BC8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C7B-E941-4AB7-AFF4-3981E428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A9F-078E-4912-84B7-9CDF3895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DB5-BC84-4214-A28E-C25024A1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BC0-56E8-4EF2-94F4-8AB56CCA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140-6050-40B3-8F76-F709C8B4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ED0-57C2-419A-AB76-4A4A83B9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68B-A6E3-4F77-A0B4-EE2C412C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263-15BC-4F35-AA98-EBB619B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B2E-276E-49FF-B06D-909E5FC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D1C-7E57-4245-94F9-1357B534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601F-BE21-4424-A39D-D943C78E03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14720" y="1714680"/>
            <a:ext cx="471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ok at the picture and describe the architecture using your own word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decorate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the modern design and ancient ar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by famous archit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angzhou new air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670040"/>
            <a:ext cx="70567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9-06T14:59:47Z</dcterms:modified>
  <cp:revision>4</cp:revision>
  <dc:subject/>
  <dc:title>PowerPoint Presentation</dc:title>
</cp:coreProperties>
</file>